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66F0-4581-49EC-98B4-84EB53999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xt describes the characteristics of “typical” business guests and leisure gues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The text provides an example of each characteristic applied to lodging industr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1243-089C-45C5-8FF9-304133A85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57B8-EF7B-487D-886F-89A3E06A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6BDD-E919-4BFE-B016-7B90CC90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2935-A898-46EA-9976-2F27A39E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38A8-520E-46B3-B005-269504943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886E-C5C4-4F1C-9FB4-1559C011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66FD-E280-4E55-9146-4B8856E7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CEE9-AE0C-42F9-90BA-CB4A2AAC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CF36-9E73-4DED-B611-CD994073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5BA6-323E-4CC5-B913-CDEE8AB8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D24E-DDE4-49B2-8861-7DF3A4DE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2FD8-363D-4CCA-849F-79774397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77F7-449E-4BC9-91BD-AAD03C68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4040-C33F-4A29-87D3-0E8ED68B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79DB-136C-446D-8E41-26908B11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5512-9B23-401D-9443-886F0ADC0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CC72-75B3-4489-9E92-9C421E43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0F6E-276A-4096-95A6-07BB7928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0B61-B181-453F-B091-A4F6EB42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5F7B-D483-49D2-8D99-A20C781A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E563-0D6E-4035-AB1C-88B0842D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A696-731B-4232-A74C-49434E3D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0714-A71A-4381-AD5B-3DC5B0E7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3F3D-802C-4A80-8C3B-BC7AA8C1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B792-E276-4953-896B-5558FE015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0F17-1AFB-477C-80D5-659C51523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hyatt.com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RONT OFFICE OPERATIONS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57000" y="485280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Hotel Gu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11" descr="j0330861[1]"/>
          <p:cNvPicPr/>
          <p:nvPr/>
        </p:nvPicPr>
        <p:blipFill>
          <a:blip r:embed="rId1">
            <a:grayscl/>
          </a:blip>
          <a:stretch/>
        </p:blipFill>
        <p:spPr>
          <a:xfrm>
            <a:off x="5292720" y="2994120"/>
            <a:ext cx="3103560" cy="30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ient Rooms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dividual booking cyc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time between when the individual reservation is made and when it is due to arriv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reas the group base can be reserved far in advance, the individual booking cycle can be more short te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alk-in reserva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made by guests arriving unannounced at a hotel and cannot be measured as part of the booking cycle as they are hard to predi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oup v Transient Roo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group and transient makeup of a hotel depends on many factors including location type, service level, target market, size and other facto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sample relationship at a fictitious downtown hotel is as follow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2955960" y="3683160"/>
            <a:ext cx="3200400" cy="2193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2955960" y="5054760"/>
            <a:ext cx="457200" cy="82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413160" y="4689360"/>
            <a:ext cx="457200" cy="11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3870360" y="4322880"/>
            <a:ext cx="457200" cy="1554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4327560" y="4505400"/>
            <a:ext cx="45720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4784760" y="5146560"/>
            <a:ext cx="457200" cy="730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5241960" y="5054760"/>
            <a:ext cx="457200" cy="82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5699160" y="5419800"/>
            <a:ext cx="4572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2411280" y="5087880"/>
            <a:ext cx="64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2411280" y="4630680"/>
            <a:ext cx="64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2411280" y="4173480"/>
            <a:ext cx="64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2411280" y="3716280"/>
            <a:ext cx="64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2411280" y="5545080"/>
            <a:ext cx="64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18"/>
          <p:cNvSpPr/>
          <p:nvPr/>
        </p:nvSpPr>
        <p:spPr>
          <a:xfrm rot="16200000">
            <a:off x="1224720" y="46274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Number of Hotel Sleeping Room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20"/>
          <p:cNvSpPr/>
          <p:nvPr/>
        </p:nvSpPr>
        <p:spPr>
          <a:xfrm>
            <a:off x="2544840" y="2939760"/>
            <a:ext cx="1095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ctangle 21"/>
          <p:cNvSpPr/>
          <p:nvPr/>
        </p:nvSpPr>
        <p:spPr>
          <a:xfrm>
            <a:off x="2971800" y="5852520"/>
            <a:ext cx="31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    T     W    T     F     S    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2"/>
          <p:cNvSpPr/>
          <p:nvPr/>
        </p:nvSpPr>
        <p:spPr>
          <a:xfrm>
            <a:off x="4859280" y="4076640"/>
            <a:ext cx="115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nsient Room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23"/>
          <p:cNvSpPr/>
          <p:nvPr/>
        </p:nvSpPr>
        <p:spPr>
          <a:xfrm>
            <a:off x="3419640" y="5373720"/>
            <a:ext cx="1223640" cy="246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Group Room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24"/>
          <p:cNvSpPr/>
          <p:nvPr/>
        </p:nvSpPr>
        <p:spPr>
          <a:xfrm>
            <a:off x="7740720" y="595008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gure 3-1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ient Reservation Avenu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hotel that wants to minimise the opportunity cost associated with transient sleeping room sales will incorporate as man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servation avenu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 poss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eservation avenue is defined as the means by which a guest is able to make a reservation at a ho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eater the access guests have to specific hotels, the more likely they are to bo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ansient Reservation Avenues (Cont…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most common reservation avenues ar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DS system (Global Distribution System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RS (Central Reservation System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rect travel agent or travel management company conta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rect guest contra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DS Syste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lobal Distribution System (GDS) is a network of travel and hospitality entities that communicate via an integrated computer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mputer systems were developed by airlines to link their availability to travel ag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ough fee agreements hotels and car rental companies now also link their individual products to the GDS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R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entral reservation systems provides the customer with an avenue to locate a hotel of choice in a certain lo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ing an easy to find toll free number such as 1800-hotels-1 or Web site such as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www.hyatt.co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CRS can generate demand for a hotel through brand loyal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avel Agent or Travel Management Compani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in the transient reservation process, travel agents and travel management companies act as intermediaries, making money in one of two way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They may charge a fla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ment f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They are paid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i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rect Guest Contac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uests themselves can make a reservation via phone, fax or inter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hotels offer a direct booking capability on their websi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ient Reservation Avenu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31"/>
          <p:cNvSpPr/>
          <p:nvPr/>
        </p:nvSpPr>
        <p:spPr>
          <a:xfrm>
            <a:off x="3348000" y="2116080"/>
            <a:ext cx="237636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nsient Gue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32"/>
          <p:cNvSpPr/>
          <p:nvPr/>
        </p:nvSpPr>
        <p:spPr>
          <a:xfrm>
            <a:off x="3348000" y="5157720"/>
            <a:ext cx="237636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t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33"/>
          <p:cNvSpPr/>
          <p:nvPr/>
        </p:nvSpPr>
        <p:spPr>
          <a:xfrm>
            <a:off x="755640" y="2836800"/>
            <a:ext cx="2376360" cy="580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vel Mgmt Co or Travel Ag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34"/>
          <p:cNvSpPr/>
          <p:nvPr/>
        </p:nvSpPr>
        <p:spPr>
          <a:xfrm>
            <a:off x="5940360" y="3629160"/>
            <a:ext cx="237672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35"/>
          <p:cNvSpPr/>
          <p:nvPr/>
        </p:nvSpPr>
        <p:spPr>
          <a:xfrm>
            <a:off x="755640" y="4276800"/>
            <a:ext cx="237636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Line 36"/>
          <p:cNvSpPr/>
          <p:nvPr/>
        </p:nvSpPr>
        <p:spPr>
          <a:xfrm>
            <a:off x="5724360" y="2349360"/>
            <a:ext cx="1522440" cy="18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Line 37"/>
          <p:cNvSpPr/>
          <p:nvPr/>
        </p:nvSpPr>
        <p:spPr>
          <a:xfrm flipH="1">
            <a:off x="7236000" y="2351160"/>
            <a:ext cx="10800" cy="129384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38"/>
          <p:cNvSpPr/>
          <p:nvPr/>
        </p:nvSpPr>
        <p:spPr>
          <a:xfrm>
            <a:off x="7236000" y="4005360"/>
            <a:ext cx="0" cy="1368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Line 39"/>
          <p:cNvSpPr/>
          <p:nvPr/>
        </p:nvSpPr>
        <p:spPr>
          <a:xfrm flipH="1">
            <a:off x="5724360" y="5373720"/>
            <a:ext cx="15098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40"/>
          <p:cNvSpPr/>
          <p:nvPr/>
        </p:nvSpPr>
        <p:spPr>
          <a:xfrm>
            <a:off x="4427640" y="2492280"/>
            <a:ext cx="0" cy="2665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Line 41"/>
          <p:cNvSpPr/>
          <p:nvPr/>
        </p:nvSpPr>
        <p:spPr>
          <a:xfrm>
            <a:off x="5075280" y="2492280"/>
            <a:ext cx="0" cy="2665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Line 42"/>
          <p:cNvSpPr/>
          <p:nvPr/>
        </p:nvSpPr>
        <p:spPr>
          <a:xfrm>
            <a:off x="3132000" y="2924280"/>
            <a:ext cx="576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Line 43"/>
          <p:cNvSpPr/>
          <p:nvPr/>
        </p:nvSpPr>
        <p:spPr>
          <a:xfrm flipH="1">
            <a:off x="3704760" y="2924280"/>
            <a:ext cx="3240" cy="2233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Line 44"/>
          <p:cNvSpPr/>
          <p:nvPr/>
        </p:nvSpPr>
        <p:spPr>
          <a:xfrm flipH="1">
            <a:off x="1753920" y="2276640"/>
            <a:ext cx="1593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Line 45"/>
          <p:cNvSpPr/>
          <p:nvPr/>
        </p:nvSpPr>
        <p:spPr>
          <a:xfrm flipH="1">
            <a:off x="1754280" y="2276640"/>
            <a:ext cx="9360" cy="57600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Line 46"/>
          <p:cNvSpPr/>
          <p:nvPr/>
        </p:nvSpPr>
        <p:spPr>
          <a:xfrm>
            <a:off x="1762200" y="3429000"/>
            <a:ext cx="1440" cy="863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Line 47"/>
          <p:cNvSpPr/>
          <p:nvPr/>
        </p:nvSpPr>
        <p:spPr>
          <a:xfrm>
            <a:off x="1752480" y="4653000"/>
            <a:ext cx="11160" cy="720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Line 48"/>
          <p:cNvSpPr/>
          <p:nvPr/>
        </p:nvSpPr>
        <p:spPr>
          <a:xfrm>
            <a:off x="1754280" y="5372280"/>
            <a:ext cx="1593720" cy="1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49"/>
          <p:cNvSpPr/>
          <p:nvPr/>
        </p:nvSpPr>
        <p:spPr>
          <a:xfrm rot="16200000">
            <a:off x="3084120" y="349092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ia Phone or Fa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50"/>
          <p:cNvSpPr/>
          <p:nvPr/>
        </p:nvSpPr>
        <p:spPr>
          <a:xfrm rot="16200000">
            <a:off x="3731760" y="320220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ia Intern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 Box 51"/>
          <p:cNvSpPr/>
          <p:nvPr/>
        </p:nvSpPr>
        <p:spPr>
          <a:xfrm>
            <a:off x="7667640" y="589104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gure 3-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arket Segmen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rket segm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portion or segment of the actual or potential business mix at any given ho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uping this business pool into segments with similar characteristics is calle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rket segm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i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ou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rket segments are corporate, association and SMER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i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ansi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rket segments are business and pleas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Typical Lodging Gu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Group 39"/>
          <p:cNvGrpSpPr/>
          <p:nvPr/>
        </p:nvGrpSpPr>
        <p:grpSpPr>
          <a:xfrm>
            <a:off x="271440" y="2362320"/>
            <a:ext cx="8339040" cy="761760"/>
            <a:chOff x="271440" y="2362320"/>
            <a:chExt cx="8339040" cy="761760"/>
          </a:xfrm>
        </p:grpSpPr>
        <p:sp>
          <p:nvSpPr>
            <p:cNvPr id="97" name="Text Box 4"/>
            <p:cNvSpPr/>
            <p:nvPr/>
          </p:nvSpPr>
          <p:spPr>
            <a:xfrm>
              <a:off x="533520" y="2438280"/>
              <a:ext cx="8076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8" name="Group 31"/>
            <p:cNvGrpSpPr/>
            <p:nvPr/>
          </p:nvGrpSpPr>
          <p:grpSpPr>
            <a:xfrm>
              <a:off x="271440" y="2362320"/>
              <a:ext cx="2014560" cy="761760"/>
              <a:chOff x="271440" y="2362320"/>
              <a:chExt cx="2014560" cy="761760"/>
            </a:xfrm>
          </p:grpSpPr>
          <p:sp>
            <p:nvSpPr>
              <p:cNvPr id="99" name="Rectangle 7"/>
              <p:cNvSpPr/>
              <p:nvPr/>
            </p:nvSpPr>
            <p:spPr>
              <a:xfrm>
                <a:off x="271440" y="2362320"/>
                <a:ext cx="1981080" cy="76176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" name="Text Box 8"/>
              <p:cNvSpPr/>
              <p:nvPr/>
            </p:nvSpPr>
            <p:spPr>
              <a:xfrm>
                <a:off x="304920" y="257184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28.8%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1" name="Group 35"/>
            <p:cNvGrpSpPr/>
            <p:nvPr/>
          </p:nvGrpSpPr>
          <p:grpSpPr>
            <a:xfrm>
              <a:off x="2324160" y="2362320"/>
              <a:ext cx="5905440" cy="761760"/>
              <a:chOff x="2324160" y="2362320"/>
              <a:chExt cx="5905440" cy="761760"/>
            </a:xfrm>
          </p:grpSpPr>
          <p:sp>
            <p:nvSpPr>
              <p:cNvPr id="102" name="Rectangle 9"/>
              <p:cNvSpPr/>
              <p:nvPr/>
            </p:nvSpPr>
            <p:spPr>
              <a:xfrm>
                <a:off x="2324160" y="2362320"/>
                <a:ext cx="5905440" cy="76176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" name="Text Box 13"/>
              <p:cNvSpPr/>
              <p:nvPr/>
            </p:nvSpPr>
            <p:spPr>
              <a:xfrm>
                <a:off x="2400480" y="2514600"/>
                <a:ext cx="563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are transient business travelers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04" name="Group 40"/>
          <p:cNvGrpSpPr/>
          <p:nvPr/>
        </p:nvGrpSpPr>
        <p:grpSpPr>
          <a:xfrm>
            <a:off x="271440" y="3200400"/>
            <a:ext cx="8339040" cy="762120"/>
            <a:chOff x="271440" y="3200400"/>
            <a:chExt cx="8339040" cy="762120"/>
          </a:xfrm>
        </p:grpSpPr>
        <p:sp>
          <p:nvSpPr>
            <p:cNvPr id="105" name="Text Box 14"/>
            <p:cNvSpPr/>
            <p:nvPr/>
          </p:nvSpPr>
          <p:spPr>
            <a:xfrm>
              <a:off x="533520" y="3276720"/>
              <a:ext cx="8076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6" name="Group 32"/>
            <p:cNvGrpSpPr/>
            <p:nvPr/>
          </p:nvGrpSpPr>
          <p:grpSpPr>
            <a:xfrm>
              <a:off x="271440" y="3200400"/>
              <a:ext cx="2014560" cy="762120"/>
              <a:chOff x="271440" y="3200400"/>
              <a:chExt cx="2014560" cy="762120"/>
            </a:xfrm>
          </p:grpSpPr>
          <p:sp>
            <p:nvSpPr>
              <p:cNvPr id="107" name="Rectangle 15"/>
              <p:cNvSpPr/>
              <p:nvPr/>
            </p:nvSpPr>
            <p:spPr>
              <a:xfrm>
                <a:off x="271440" y="3200400"/>
                <a:ext cx="198108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Text Box 16"/>
              <p:cNvSpPr/>
              <p:nvPr/>
            </p:nvSpPr>
            <p:spPr>
              <a:xfrm>
                <a:off x="304920" y="340992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25.3%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" name="Group 36"/>
            <p:cNvGrpSpPr/>
            <p:nvPr/>
          </p:nvGrpSpPr>
          <p:grpSpPr>
            <a:xfrm>
              <a:off x="2324160" y="3200400"/>
              <a:ext cx="5905440" cy="762120"/>
              <a:chOff x="2324160" y="3200400"/>
              <a:chExt cx="5905440" cy="762120"/>
            </a:xfrm>
          </p:grpSpPr>
          <p:sp>
            <p:nvSpPr>
              <p:cNvPr id="110" name="Rectangle 17"/>
              <p:cNvSpPr/>
              <p:nvPr/>
            </p:nvSpPr>
            <p:spPr>
              <a:xfrm>
                <a:off x="2324160" y="3200400"/>
                <a:ext cx="590544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Text Box 18"/>
              <p:cNvSpPr/>
              <p:nvPr/>
            </p:nvSpPr>
            <p:spPr>
              <a:xfrm>
                <a:off x="2400480" y="3352680"/>
                <a:ext cx="563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are attending a conference/group meeting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12" name="Group 41"/>
          <p:cNvGrpSpPr/>
          <p:nvPr/>
        </p:nvGrpSpPr>
        <p:grpSpPr>
          <a:xfrm>
            <a:off x="271440" y="4038480"/>
            <a:ext cx="8339040" cy="762120"/>
            <a:chOff x="271440" y="4038480"/>
            <a:chExt cx="8339040" cy="762120"/>
          </a:xfrm>
        </p:grpSpPr>
        <p:sp>
          <p:nvSpPr>
            <p:cNvPr id="113" name="Text Box 19"/>
            <p:cNvSpPr/>
            <p:nvPr/>
          </p:nvSpPr>
          <p:spPr>
            <a:xfrm>
              <a:off x="533520" y="4114800"/>
              <a:ext cx="8076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4" name="Group 33"/>
            <p:cNvGrpSpPr/>
            <p:nvPr/>
          </p:nvGrpSpPr>
          <p:grpSpPr>
            <a:xfrm>
              <a:off x="271440" y="4038480"/>
              <a:ext cx="2014560" cy="762120"/>
              <a:chOff x="271440" y="4038480"/>
              <a:chExt cx="2014560" cy="762120"/>
            </a:xfrm>
          </p:grpSpPr>
          <p:sp>
            <p:nvSpPr>
              <p:cNvPr id="115" name="Rectangle 20"/>
              <p:cNvSpPr/>
              <p:nvPr/>
            </p:nvSpPr>
            <p:spPr>
              <a:xfrm>
                <a:off x="271440" y="4038480"/>
                <a:ext cx="198108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Text Box 21"/>
              <p:cNvSpPr/>
              <p:nvPr/>
            </p:nvSpPr>
            <p:spPr>
              <a:xfrm>
                <a:off x="304920" y="424800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24.6%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7" name="Group 37"/>
            <p:cNvGrpSpPr/>
            <p:nvPr/>
          </p:nvGrpSpPr>
          <p:grpSpPr>
            <a:xfrm>
              <a:off x="2324160" y="4038480"/>
              <a:ext cx="5905440" cy="762120"/>
              <a:chOff x="2324160" y="4038480"/>
              <a:chExt cx="5905440" cy="762120"/>
            </a:xfrm>
          </p:grpSpPr>
          <p:sp>
            <p:nvSpPr>
              <p:cNvPr id="118" name="Rectangle 22"/>
              <p:cNvSpPr/>
              <p:nvPr/>
            </p:nvSpPr>
            <p:spPr>
              <a:xfrm>
                <a:off x="2324160" y="4038480"/>
                <a:ext cx="590544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Text Box 23"/>
              <p:cNvSpPr/>
              <p:nvPr/>
            </p:nvSpPr>
            <p:spPr>
              <a:xfrm>
                <a:off x="2400480" y="4191120"/>
                <a:ext cx="563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are on vacation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20" name="Group 42"/>
          <p:cNvGrpSpPr/>
          <p:nvPr/>
        </p:nvGrpSpPr>
        <p:grpSpPr>
          <a:xfrm>
            <a:off x="271440" y="4896000"/>
            <a:ext cx="8339040" cy="819000"/>
            <a:chOff x="271440" y="4896000"/>
            <a:chExt cx="8339040" cy="819000"/>
          </a:xfrm>
        </p:grpSpPr>
        <p:sp>
          <p:nvSpPr>
            <p:cNvPr id="121" name="Text Box 24"/>
            <p:cNvSpPr/>
            <p:nvPr/>
          </p:nvSpPr>
          <p:spPr>
            <a:xfrm>
              <a:off x="533520" y="5029200"/>
              <a:ext cx="8076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2" name="Group 34"/>
            <p:cNvGrpSpPr/>
            <p:nvPr/>
          </p:nvGrpSpPr>
          <p:grpSpPr>
            <a:xfrm>
              <a:off x="271440" y="4952880"/>
              <a:ext cx="2014560" cy="762120"/>
              <a:chOff x="271440" y="4952880"/>
              <a:chExt cx="2014560" cy="762120"/>
            </a:xfrm>
          </p:grpSpPr>
          <p:sp>
            <p:nvSpPr>
              <p:cNvPr id="123" name="Rectangle 25"/>
              <p:cNvSpPr/>
              <p:nvPr/>
            </p:nvSpPr>
            <p:spPr>
              <a:xfrm>
                <a:off x="271440" y="4952880"/>
                <a:ext cx="198108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Text Box 26"/>
              <p:cNvSpPr/>
              <p:nvPr/>
            </p:nvSpPr>
            <p:spPr>
              <a:xfrm>
                <a:off x="304920" y="516240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21.8%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25" name="Group 38"/>
            <p:cNvGrpSpPr/>
            <p:nvPr/>
          </p:nvGrpSpPr>
          <p:grpSpPr>
            <a:xfrm>
              <a:off x="2324160" y="4896000"/>
              <a:ext cx="5905440" cy="819000"/>
              <a:chOff x="2324160" y="4896000"/>
              <a:chExt cx="5905440" cy="819000"/>
            </a:xfrm>
          </p:grpSpPr>
          <p:sp>
            <p:nvSpPr>
              <p:cNvPr id="126" name="Rectangle 27"/>
              <p:cNvSpPr/>
              <p:nvPr/>
            </p:nvSpPr>
            <p:spPr>
              <a:xfrm>
                <a:off x="2324160" y="4952880"/>
                <a:ext cx="590544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Text Box 28"/>
              <p:cNvSpPr/>
              <p:nvPr/>
            </p:nvSpPr>
            <p:spPr>
              <a:xfrm>
                <a:off x="2400480" y="4896000"/>
                <a:ext cx="5638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are traveling for other reasons (for example, personal, family, or special event)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oup Market Segm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rpor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rket segment consists of for-profit companies and frequently pays higher rates than other segments to ensure quality pro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ssociati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et segment consists of groups of individuals or companies that share common purposes or goals, and is more cost-conscious than the corporate seg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oup Market Segments (Cont.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SMERF segment consists of groups that have characteristics that set them apart from the previous two categories, and has five primary compon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900000" y="3457440"/>
          <a:ext cx="7272360" cy="2347920"/>
        </p:xfrm>
        <a:graphic>
          <a:graphicData uri="http://schemas.openxmlformats.org/drawingml/2006/table">
            <a:tbl>
              <a:tblPr/>
              <a:tblGrid>
                <a:gridCol w="3000600"/>
                <a:gridCol w="42717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mary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k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ddings, Proms, Fund Raisers, et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unions, Award Ceremo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c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inuing Education, Classes,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igio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vivals, Enlightenment Gather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ter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ternities, Soror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ient Segm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usines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ansi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guest is one who stays at a hotel because of its location in relation to another organis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usiness guest makes his/her hotel choice based on many factors, but one of the most common is brand loyal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hotels offer various incentives for guest loyal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ient Segments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leasur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ansi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guest stays at  hotel because of its proximity to an attraction and/or because of a signature attraction at the hotel itself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ignature attraction is an event, activity or facility identified with a specific ho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uest Room Deman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ollowing figure illustrates how both group and transient market segments come together to make up guest room dem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Picture 4" descr="j0310022[1]"/>
          <p:cNvPicPr/>
          <p:nvPr/>
        </p:nvPicPr>
        <p:blipFill>
          <a:blip r:embed="rId1"/>
          <a:stretch/>
        </p:blipFill>
        <p:spPr>
          <a:xfrm>
            <a:off x="3203640" y="2997360"/>
            <a:ext cx="2720880" cy="30668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5"/>
          <p:cNvSpPr/>
          <p:nvPr/>
        </p:nvSpPr>
        <p:spPr>
          <a:xfrm>
            <a:off x="4067280" y="3689280"/>
            <a:ext cx="1008000" cy="1110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t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ues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m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Oval 6"/>
          <p:cNvSpPr/>
          <p:nvPr/>
        </p:nvSpPr>
        <p:spPr>
          <a:xfrm>
            <a:off x="826920" y="3141720"/>
            <a:ext cx="1368720" cy="647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Oval 7"/>
          <p:cNvSpPr/>
          <p:nvPr/>
        </p:nvSpPr>
        <p:spPr>
          <a:xfrm>
            <a:off x="826920" y="4149720"/>
            <a:ext cx="1368720" cy="647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Oval 8"/>
          <p:cNvSpPr/>
          <p:nvPr/>
        </p:nvSpPr>
        <p:spPr>
          <a:xfrm>
            <a:off x="826920" y="5302080"/>
            <a:ext cx="1368720" cy="648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Oval 9"/>
          <p:cNvSpPr/>
          <p:nvPr/>
        </p:nvSpPr>
        <p:spPr>
          <a:xfrm>
            <a:off x="6732720" y="4797360"/>
            <a:ext cx="1368360" cy="647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Oval 10"/>
          <p:cNvSpPr/>
          <p:nvPr/>
        </p:nvSpPr>
        <p:spPr>
          <a:xfrm>
            <a:off x="6732720" y="3430440"/>
            <a:ext cx="1368360" cy="648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Line 11"/>
          <p:cNvSpPr/>
          <p:nvPr/>
        </p:nvSpPr>
        <p:spPr>
          <a:xfrm>
            <a:off x="2124000" y="364500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Line 12"/>
          <p:cNvSpPr/>
          <p:nvPr/>
        </p:nvSpPr>
        <p:spPr>
          <a:xfrm>
            <a:off x="2195640" y="4437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Line 13"/>
          <p:cNvSpPr/>
          <p:nvPr/>
        </p:nvSpPr>
        <p:spPr>
          <a:xfrm flipV="1">
            <a:off x="2052720" y="4581000"/>
            <a:ext cx="5745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Line 14"/>
          <p:cNvSpPr/>
          <p:nvPr/>
        </p:nvSpPr>
        <p:spPr>
          <a:xfrm flipH="1">
            <a:off x="6444720" y="393372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Line 15"/>
          <p:cNvSpPr/>
          <p:nvPr/>
        </p:nvSpPr>
        <p:spPr>
          <a:xfrm flipH="1" flipV="1">
            <a:off x="6444720" y="4509720"/>
            <a:ext cx="358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Line 16"/>
          <p:cNvSpPr/>
          <p:nvPr/>
        </p:nvSpPr>
        <p:spPr>
          <a:xfrm>
            <a:off x="3348000" y="443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Line 17"/>
          <p:cNvSpPr/>
          <p:nvPr/>
        </p:nvSpPr>
        <p:spPr>
          <a:xfrm flipH="1">
            <a:off x="5365440" y="44388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 Box 18"/>
          <p:cNvSpPr/>
          <p:nvPr/>
        </p:nvSpPr>
        <p:spPr>
          <a:xfrm>
            <a:off x="5653080" y="429408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i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ext Box 19"/>
          <p:cNvSpPr/>
          <p:nvPr/>
        </p:nvSpPr>
        <p:spPr>
          <a:xfrm>
            <a:off x="6950160" y="494172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leas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 Box 20"/>
          <p:cNvSpPr/>
          <p:nvPr/>
        </p:nvSpPr>
        <p:spPr>
          <a:xfrm>
            <a:off x="6877080" y="357336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21"/>
          <p:cNvSpPr/>
          <p:nvPr/>
        </p:nvSpPr>
        <p:spPr>
          <a:xfrm>
            <a:off x="2700360" y="429264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u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1116000" y="545940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MER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Text Box 23"/>
          <p:cNvSpPr/>
          <p:nvPr/>
        </p:nvSpPr>
        <p:spPr>
          <a:xfrm>
            <a:off x="900000" y="4365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24"/>
          <p:cNvSpPr/>
          <p:nvPr/>
        </p:nvSpPr>
        <p:spPr>
          <a:xfrm>
            <a:off x="971640" y="335772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7667640" y="5950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gure 3-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32"/>
          <p:cNvGrpSpPr/>
          <p:nvPr/>
        </p:nvGrpSpPr>
        <p:grpSpPr>
          <a:xfrm>
            <a:off x="380880" y="1181160"/>
            <a:ext cx="8229600" cy="1085760"/>
            <a:chOff x="380880" y="1181160"/>
            <a:chExt cx="8229600" cy="1085760"/>
          </a:xfrm>
        </p:grpSpPr>
        <p:sp>
          <p:nvSpPr>
            <p:cNvPr id="129" name="Rectangle 7"/>
            <p:cNvSpPr/>
            <p:nvPr/>
          </p:nvSpPr>
          <p:spPr>
            <a:xfrm>
              <a:off x="380880" y="1181160"/>
              <a:ext cx="8229600" cy="10857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30" name="Picture 8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506520" y="127332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9"/>
            <p:cNvSpPr/>
            <p:nvPr/>
          </p:nvSpPr>
          <p:spPr>
            <a:xfrm>
              <a:off x="1058760" y="1254240"/>
              <a:ext cx="739944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mphasis on safety, cleanliness &amp; servic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buClr>
                  <a:srgbClr val="000000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Guests also consider “intangible” aspects of the purcha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Lodging Industry Character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3" name="Group 33"/>
          <p:cNvGrpSpPr/>
          <p:nvPr/>
        </p:nvGrpSpPr>
        <p:grpSpPr>
          <a:xfrm>
            <a:off x="380880" y="2308320"/>
            <a:ext cx="8229600" cy="815760"/>
            <a:chOff x="380880" y="2308320"/>
            <a:chExt cx="8229600" cy="815760"/>
          </a:xfrm>
        </p:grpSpPr>
        <p:sp>
          <p:nvSpPr>
            <p:cNvPr id="134" name="Rectangle 18"/>
            <p:cNvSpPr/>
            <p:nvPr/>
          </p:nvSpPr>
          <p:spPr>
            <a:xfrm>
              <a:off x="380880" y="2308320"/>
              <a:ext cx="8229600" cy="8157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35" name="Picture 19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506520" y="2400120"/>
              <a:ext cx="53964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20"/>
            <p:cNvSpPr/>
            <p:nvPr/>
          </p:nvSpPr>
          <p:spPr>
            <a:xfrm>
              <a:off x="1058760" y="2381040"/>
              <a:ext cx="739944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separability of manufacture &amp; sale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buClr>
                  <a:srgbClr val="000000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 room exists &amp; is sold at the same sit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7" name="Group 34"/>
          <p:cNvGrpSpPr/>
          <p:nvPr/>
        </p:nvGrpSpPr>
        <p:grpSpPr>
          <a:xfrm>
            <a:off x="380880" y="3200400"/>
            <a:ext cx="8229600" cy="1044720"/>
            <a:chOff x="380880" y="3200400"/>
            <a:chExt cx="8229600" cy="1044720"/>
          </a:xfrm>
        </p:grpSpPr>
        <p:sp>
          <p:nvSpPr>
            <p:cNvPr id="138" name="Rectangle 21"/>
            <p:cNvSpPr/>
            <p:nvPr/>
          </p:nvSpPr>
          <p:spPr>
            <a:xfrm>
              <a:off x="380880" y="3200400"/>
              <a:ext cx="8229600" cy="1044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39" name="Picture 22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06520" y="3254400"/>
              <a:ext cx="53964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23"/>
            <p:cNvSpPr/>
            <p:nvPr/>
          </p:nvSpPr>
          <p:spPr>
            <a:xfrm>
              <a:off x="1058760" y="3254400"/>
              <a:ext cx="739944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erishability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- If a room is not rented on a specific date, the revenue i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lost forever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1" name="Group 35"/>
          <p:cNvGrpSpPr/>
          <p:nvPr/>
        </p:nvGrpSpPr>
        <p:grpSpPr>
          <a:xfrm>
            <a:off x="380880" y="4308480"/>
            <a:ext cx="8229600" cy="720720"/>
            <a:chOff x="380880" y="4308480"/>
            <a:chExt cx="8229600" cy="720720"/>
          </a:xfrm>
        </p:grpSpPr>
        <p:sp>
          <p:nvSpPr>
            <p:cNvPr id="142" name="Rectangle 24"/>
            <p:cNvSpPr/>
            <p:nvPr/>
          </p:nvSpPr>
          <p:spPr>
            <a:xfrm>
              <a:off x="380880" y="4308480"/>
              <a:ext cx="8229600" cy="720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43" name="Picture 25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506520" y="440064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26"/>
            <p:cNvSpPr/>
            <p:nvPr/>
          </p:nvSpPr>
          <p:spPr>
            <a:xfrm>
              <a:off x="1058760" y="4381560"/>
              <a:ext cx="73994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Repetitivenes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- Some operating procedures are routine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5" name="Group 36"/>
          <p:cNvGrpSpPr/>
          <p:nvPr/>
        </p:nvGrpSpPr>
        <p:grpSpPr>
          <a:xfrm>
            <a:off x="380880" y="5032440"/>
            <a:ext cx="8229600" cy="1063440"/>
            <a:chOff x="380880" y="5032440"/>
            <a:chExt cx="8229600" cy="1063440"/>
          </a:xfrm>
        </p:grpSpPr>
        <p:sp>
          <p:nvSpPr>
            <p:cNvPr id="146" name="Rectangle 27"/>
            <p:cNvSpPr/>
            <p:nvPr/>
          </p:nvSpPr>
          <p:spPr>
            <a:xfrm>
              <a:off x="380880" y="5032440"/>
              <a:ext cx="8229600" cy="10634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47" name="Picture 28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506520" y="512460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29"/>
            <p:cNvSpPr/>
            <p:nvPr/>
          </p:nvSpPr>
          <p:spPr>
            <a:xfrm>
              <a:off x="1058760" y="5105520"/>
              <a:ext cx="739944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Labor Intensiv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- Much of a hotel’s daily work involves employee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oviding service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37"/>
          <p:cNvGrpSpPr/>
          <p:nvPr/>
        </p:nvGrpSpPr>
        <p:grpSpPr>
          <a:xfrm>
            <a:off x="457200" y="4876920"/>
            <a:ext cx="8153280" cy="1199880"/>
            <a:chOff x="457200" y="4876920"/>
            <a:chExt cx="8153280" cy="1199880"/>
          </a:xfrm>
        </p:grpSpPr>
        <p:sp>
          <p:nvSpPr>
            <p:cNvPr id="150" name="Rectangle 28"/>
            <p:cNvSpPr/>
            <p:nvPr/>
          </p:nvSpPr>
          <p:spPr>
            <a:xfrm>
              <a:off x="457200" y="4876920"/>
              <a:ext cx="8153280" cy="1199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51" name="Picture 30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609480" y="514332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31"/>
            <p:cNvSpPr/>
            <p:nvPr/>
          </p:nvSpPr>
          <p:spPr>
            <a:xfrm>
              <a:off x="1009800" y="5060880"/>
              <a:ext cx="744840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arious amenities (e.g., business centers) increase costs for hotel owners yet sometimes appeal to only a small segment of the hotel’s market.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3" name="Group 36"/>
          <p:cNvGrpSpPr/>
          <p:nvPr/>
        </p:nvGrpSpPr>
        <p:grpSpPr>
          <a:xfrm>
            <a:off x="457200" y="3657600"/>
            <a:ext cx="8153280" cy="914400"/>
            <a:chOff x="457200" y="3657600"/>
            <a:chExt cx="8153280" cy="914400"/>
          </a:xfrm>
        </p:grpSpPr>
        <p:sp>
          <p:nvSpPr>
            <p:cNvPr id="154" name="Rectangle 24"/>
            <p:cNvSpPr/>
            <p:nvPr/>
          </p:nvSpPr>
          <p:spPr>
            <a:xfrm>
              <a:off x="457200" y="3657600"/>
              <a:ext cx="815328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55" name="Picture 26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609480" y="392436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27"/>
            <p:cNvSpPr/>
            <p:nvPr/>
          </p:nvSpPr>
          <p:spPr>
            <a:xfrm>
              <a:off x="1009800" y="3898800"/>
              <a:ext cx="74484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esults in a more competitive selling environment for hoteliers (e.g., online room booking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7" name="Group 35"/>
          <p:cNvGrpSpPr/>
          <p:nvPr/>
        </p:nvGrpSpPr>
        <p:grpSpPr>
          <a:xfrm>
            <a:off x="457200" y="2587680"/>
            <a:ext cx="8153280" cy="914400"/>
            <a:chOff x="457200" y="2587680"/>
            <a:chExt cx="8153280" cy="914400"/>
          </a:xfrm>
        </p:grpSpPr>
        <p:sp>
          <p:nvSpPr>
            <p:cNvPr id="158" name="Rectangle 20"/>
            <p:cNvSpPr/>
            <p:nvPr/>
          </p:nvSpPr>
          <p:spPr>
            <a:xfrm>
              <a:off x="457200" y="2587680"/>
              <a:ext cx="815328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59" name="Picture 22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609480" y="285444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23"/>
            <p:cNvSpPr/>
            <p:nvPr/>
          </p:nvSpPr>
          <p:spPr>
            <a:xfrm>
              <a:off x="1009800" y="2829240"/>
              <a:ext cx="74484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he more  the number of brands increase, the harder consumers find it to differentiate between them.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1" name="Group 34"/>
          <p:cNvGrpSpPr/>
          <p:nvPr/>
        </p:nvGrpSpPr>
        <p:grpSpPr>
          <a:xfrm>
            <a:off x="457200" y="1428840"/>
            <a:ext cx="8153280" cy="895320"/>
            <a:chOff x="457200" y="1428840"/>
            <a:chExt cx="8153280" cy="895320"/>
          </a:xfrm>
        </p:grpSpPr>
        <p:sp>
          <p:nvSpPr>
            <p:cNvPr id="162" name="Rectangle 4"/>
            <p:cNvSpPr/>
            <p:nvPr/>
          </p:nvSpPr>
          <p:spPr>
            <a:xfrm>
              <a:off x="457200" y="1428840"/>
              <a:ext cx="8153280" cy="895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63" name="Picture 6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609480" y="177156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7"/>
            <p:cNvSpPr/>
            <p:nvPr/>
          </p:nvSpPr>
          <p:spPr>
            <a:xfrm>
              <a:off x="1009800" y="1670040"/>
              <a:ext cx="74484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fforts to focus on a highly defined, smaller group of travelers.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5" name="Text Box 5"/>
          <p:cNvSpPr/>
          <p:nvPr/>
        </p:nvSpPr>
        <p:spPr>
          <a:xfrm>
            <a:off x="457200" y="1200240"/>
            <a:ext cx="4876920" cy="3405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rket segmentation is increas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Current Issues confronting Hoteliers: Marketing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457200" y="2362320"/>
            <a:ext cx="2590920" cy="3405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rands overla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457200" y="3505320"/>
            <a:ext cx="5334120" cy="3405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creased sophistication of consum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457200" y="4648320"/>
            <a:ext cx="4267080" cy="3405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creased number of ameni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tent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om Sales Differenti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oup Roo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ient Roo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ient Reservation Aven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rket Seg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oup Market Seg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ient Market Seg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oom Sales Differentiation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oup catering contribution plays an important role in food and beverage revenue and also impacts the sleeping room portion of the hotel success triangle (see tex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ccupancy is the measurement of room sales verses available roo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ooms that are sold fall into two categories: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ou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ans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mbination of these two groups makes up the hotel’s occupa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oup Roo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oup room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iginate from reservations that are made to bring more than one guest to the ho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up rooms involve a series of bookings that correspond to specific fun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hotels consider bookings of 10 or more rooms per night a group boo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urpose of the group room sales effort is to seek group bookings and bring them to the ho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oup Rooms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ups sales is counted upon to fill a certain number of hotel rooms per n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oup base is the measurement of how many group rooms are “on the books” on a given n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cause groups can be booked far in advance, they are sought af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’s important to note that group rooms are often offered at lower r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ient Room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ient rooms are rooms that originate from individual reserv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ient rooms are non-group roo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se differ from group rooms as there is no way to predict when these guests will arr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dicting the level of individual reservations on any given night is diffic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ing at historical data helps in determining the most likely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06:28:41Z</dcterms:created>
  <dc:creator>Chris Drzewucki</dc:creator>
  <dc:description/>
  <dc:language>en-US</dc:language>
  <cp:lastModifiedBy>robert</cp:lastModifiedBy>
  <dcterms:modified xsi:type="dcterms:W3CDTF">2011-04-10T14:00:08Z</dcterms:modified>
  <cp:revision>97</cp:revision>
  <dc:subject/>
  <dc:title>FRONT OFFICE OPERATIONS MANAGEMENT</dc:title>
</cp:coreProperties>
</file>